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30.png" ContentType="image/png"/>
  <Override PartName="/ppt/media/image17.jpeg" ContentType="image/jpeg"/>
  <Override PartName="/ppt/media/image48.png" ContentType="image/png"/>
  <Override PartName="/ppt/media/image11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16.jpeg" ContentType="image/jpeg"/>
  <Override PartName="/ppt/media/image21.jpeg" ContentType="image/jpeg"/>
  <Override PartName="/ppt/media/image42.png" ContentType="image/png"/>
  <Override PartName="/ppt/media/image26.jpeg" ContentType="image/jpeg"/>
  <Override PartName="/ppt/media/image76.png" ContentType="image/png"/>
  <Override PartName="/ppt/media/image74.jpeg" ContentType="image/jpeg"/>
  <Override PartName="/ppt/media/image69.jpeg" ContentType="image/jpeg"/>
  <Override PartName="/ppt/media/image73.jpeg" ContentType="image/jpeg"/>
  <Override PartName="/ppt/media/image71.jpeg" ContentType="image/jpeg"/>
  <Override PartName="/ppt/media/image68.jpeg" ContentType="image/jpeg"/>
  <Override PartName="/ppt/media/image13.png" ContentType="image/png"/>
  <Override PartName="/ppt/media/image1.png" ContentType="image/png"/>
  <Override PartName="/ppt/media/image61.png" ContentType="image/png"/>
  <Override PartName="/ppt/media/image70.jpeg" ContentType="image/jpeg"/>
  <Override PartName="/ppt/media/image5.png" ContentType="image/png"/>
  <Override PartName="/ppt/media/image35.png" ContentType="image/png"/>
  <Override PartName="/ppt/media/image67.jpeg" ContentType="image/jpeg"/>
  <Override PartName="/ppt/media/image63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23.png" ContentType="image/png"/>
  <Override PartName="/ppt/media/image72.jpeg" ContentType="image/jpeg"/>
  <Override PartName="/ppt/media/image14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29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75.png" ContentType="image/png"/>
  <Override PartName="/ppt/media/image22.jpeg" ContentType="image/jpeg"/>
  <Override PartName="/ppt/media/image39.png" ContentType="image/png"/>
  <Override PartName="/ppt/media/image64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A43-7DEB-46AE-B56B-93BBCA43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F01-7D33-46B3-83EC-A73003B4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A09-FE09-4CEF-8314-3902895F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A74-5D02-4F66-9010-44CF753E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12F2-FEDE-4695-A5F6-3F0D1041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5E00-7697-472E-81E1-F6C9857F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9D21-26E4-4D42-96A9-C85352BC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E68F-DDA2-43DE-A4A9-B3A0D834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F3DB-790C-4C2C-9C48-915404F8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945F-8A5C-4C65-ACD0-4A313F69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CBE3-E82B-4A28-9E9E-AE129BFD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BF8-7593-4318-B585-8378755B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8253-4EF3-465A-95AA-406A78D0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6000-8998-443D-9A49-6B37F2C2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3C9D-49CB-49FA-8CC2-68998BA5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8368-D54B-4272-A660-BF68178A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3464-E3DD-4ED4-B3FD-DCC571B3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091-A0FE-43A3-88CB-D213E162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780-E0EB-48A9-A738-5D688C7B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0EE-1B0A-45C4-BCE8-6B7ADF21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048-5939-40E8-9ADA-65E72A89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21C-9C24-424C-894C-161B91E0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5DE-3BC8-466D-8E6C-2CCC5FE0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A8B-37AC-4EFC-B184-357E35DC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6D11-5690-411B-8ECA-2FEFBB42C0D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ACDE-B92F-4ED4-A0CB-F7CE8748A3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rdiosite.ru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9600" spc="-1" strike="noStrike">
                <a:solidFill>
                  <a:srgbClr val="eaeaea"/>
                </a:solidFill>
                <a:latin typeface="Tahoma"/>
              </a:rPr>
              <a:t>Э  К  Г</a:t>
            </a:r>
            <a:endParaRPr b="1" lang="en-US" sz="9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856908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ассистент кафедры военно-морской и общей терапии Военно-медицинской академ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.м.н.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Корзун Александр Иван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евые Грудные Отве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Грудные отведения сзади" descr=""/>
          <p:cNvPicPr/>
          <p:nvPr/>
        </p:nvPicPr>
        <p:blipFill>
          <a:blip r:embed="rId1"/>
          <a:stretch/>
        </p:blipFill>
        <p:spPr>
          <a:xfrm>
            <a:off x="3282840" y="1981080"/>
            <a:ext cx="28051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пертроф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Г – очень косвенный мето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Более ценный метод выявления гипертрофии миокарда – ЭхоКГ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пертрофия ЛП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436572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27280" y="4040280"/>
            <a:ext cx="1440000" cy="325440"/>
          </a:xfrm>
          <a:custGeom>
            <a:avLst/>
            <a:gdLst/>
            <a:ahLst/>
            <a:rect l="l" t="t" r="r" b="b"/>
            <a:pathLst>
              <a:path w="907" h="205">
                <a:moveTo>
                  <a:pt x="0" y="205"/>
                </a:moveTo>
                <a:cubicBezTo>
                  <a:pt x="75" y="125"/>
                  <a:pt x="151" y="46"/>
                  <a:pt x="227" y="23"/>
                </a:cubicBezTo>
                <a:cubicBezTo>
                  <a:pt x="303" y="0"/>
                  <a:pt x="378" y="69"/>
                  <a:pt x="454" y="69"/>
                </a:cubicBezTo>
                <a:cubicBezTo>
                  <a:pt x="530" y="69"/>
                  <a:pt x="606" y="8"/>
                  <a:pt x="681" y="23"/>
                </a:cubicBezTo>
                <a:cubicBezTo>
                  <a:pt x="756" y="38"/>
                  <a:pt x="870" y="136"/>
                  <a:pt x="907" y="15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67280" y="429264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16360" y="4292640"/>
            <a:ext cx="71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788000" y="2997360"/>
            <a:ext cx="2156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46560" y="5013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 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tr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пертрофия ПП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1258920" y="4292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59280" y="3357720"/>
            <a:ext cx="504720" cy="934920"/>
          </a:xfrm>
          <a:custGeom>
            <a:avLst/>
            <a:gdLst/>
            <a:ahLst/>
            <a:rect l="l" t="t" r="r" b="b"/>
            <a:pathLst>
              <a:path w="318" h="408">
                <a:moveTo>
                  <a:pt x="0" y="408"/>
                </a:moveTo>
                <a:cubicBezTo>
                  <a:pt x="64" y="204"/>
                  <a:pt x="129" y="0"/>
                  <a:pt x="182" y="0"/>
                </a:cubicBezTo>
                <a:cubicBezTo>
                  <a:pt x="235" y="0"/>
                  <a:pt x="295" y="340"/>
                  <a:pt x="318" y="4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64000" y="4292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56000" y="4292640"/>
            <a:ext cx="71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4427640" y="3141360"/>
            <a:ext cx="215640" cy="136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76720" y="5013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 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lmo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пертрофия ЛЖ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5,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1,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рот по часовой (ПЗ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 V 5,6 + S V1 &gt; 35 mm (&gt; 40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45 mm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40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 V 5,6 &gt; 25 m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рот оси вле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пертрофия ЛЖ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2612880"/>
            <a:ext cx="914400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пертрофия ПЖ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1,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5,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 V 1 &gt; 7 m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 V 1 + S V 5, 6 &gt; 10,5 m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тип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пертрофия ПЖ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(три типа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SR’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R’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п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1 – V 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КГ СИНДРОМ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я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я проводим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шемия, повреждение, некр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роф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индром ранней реполяризации Л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Р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вац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уклостью вн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зубрина в конц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ньшени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левых грудных отвед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3780000" y="5589720"/>
            <a:ext cx="86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43280" y="5589720"/>
            <a:ext cx="730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716360" y="4076640"/>
            <a:ext cx="71640" cy="165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88000" y="4076640"/>
            <a:ext cx="14436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932360" y="5373720"/>
            <a:ext cx="712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03640" y="5373720"/>
            <a:ext cx="935280" cy="227160"/>
          </a:xfrm>
          <a:custGeom>
            <a:avLst/>
            <a:gdLst/>
            <a:ahLst/>
            <a:rect l="l" t="t" r="r" b="b"/>
            <a:pathLst>
              <a:path w="589" h="143">
                <a:moveTo>
                  <a:pt x="0" y="7"/>
                </a:moveTo>
                <a:cubicBezTo>
                  <a:pt x="60" y="52"/>
                  <a:pt x="121" y="98"/>
                  <a:pt x="181" y="98"/>
                </a:cubicBezTo>
                <a:cubicBezTo>
                  <a:pt x="241" y="98"/>
                  <a:pt x="294" y="0"/>
                  <a:pt x="362" y="7"/>
                </a:cubicBezTo>
                <a:cubicBezTo>
                  <a:pt x="430" y="14"/>
                  <a:pt x="551" y="120"/>
                  <a:pt x="589" y="14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940360" y="558972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водки на ЭК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5640" y="242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0 Г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ение 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и дрожание больн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косновение другого человека к контакт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авые Грудные Отве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Грудные отведения Гребенев2" descr=""/>
          <p:cNvPicPr/>
          <p:nvPr/>
        </p:nvPicPr>
        <p:blipFill>
          <a:blip r:embed="rId1"/>
          <a:stretch/>
        </p:blipFill>
        <p:spPr>
          <a:xfrm>
            <a:off x="1157400" y="1981080"/>
            <a:ext cx="3298680" cy="4400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6R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3429000"/>
            <a:ext cx="144720" cy="144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3573360"/>
            <a:ext cx="142920" cy="142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3645000"/>
            <a:ext cx="144360" cy="144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3645000"/>
            <a:ext cx="144720" cy="144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КГ в динами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авнить все пункты, включая синдромы, с предыдущими ЭКГ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, PQ, QRS, QT, RR (min – max)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льтаж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точник рит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гулярность ритма (пр. или непр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СС (ЧСЖ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ожение ЭОС (сагиттальная ос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Г синдро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ушения рит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ушения проводим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шемия, повреждение, некро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пертроф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ндром ранней реполяризации Л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амика О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280" y="1996920"/>
            <a:ext cx="8785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Описание ЭКГ –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НЕ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постановка клинического диагноза 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днако, некоторые клинические ситуации необходимо учитывать, анализируя комплекс увиденных отклонений и синдром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Отдельные особые ситуации требующие анализ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гочное серд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кард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окард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окардиодистрофии (не путать с КМ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о-, гипер- К+, Са+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гоксин и другие гликоз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енности детской Э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оки серд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егочное сердц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82803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Q III – S 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вац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бэпи повреждение) –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, aVF, V 1,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ый Т (субэпи ишемия) –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, aVF, V 1,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пресс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бэндо повреждение) –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aVL, V 5, 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(возможно реципрокн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окада правой ножки пучка Г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ертрофия правого предсердия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-pul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страя обратная динам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ерикарди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вац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бэпи повреждение) во многих отвед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,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ЕТ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Q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ижение вольтажа (экссуда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инамика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элевацию через несколько дней сменяет отрицательный Т (субэпи ишемия) во многих отвед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Аневризма сердц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стывшая ЭКГ динами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элевац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убэпи поврежд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 ~ 1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иокарди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Специфических проявлений НЕТ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Помойная яма в кардиологи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нообразие нарушений ритма и проводим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аще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над-,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желудочковые ЭКСТРАСИСТО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: БОРРЕЛИОЗ – АВ блокад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иокардиодистроф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98072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лкого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ритмии (тахи, экстра, Ф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пресс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бэндо повреж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lmon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личные изменения Т (+, -, 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иреотокс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ахикардия (в т.ч. Ф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tr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личные изменения Т (+, -, 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Дисгормональная (климак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личные изменения Т (+, -, 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гда ЭКГ нормализуется при пробах с К или БА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ипо-, гипер- К+, Са++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24000" y="1989000"/>
          <a:ext cx="8820000" cy="4289400"/>
        </p:xfrm>
        <a:graphic>
          <a:graphicData uri="http://schemas.openxmlformats.org/drawingml/2006/table">
            <a:tbl>
              <a:tblPr/>
              <a:tblGrid>
                <a:gridCol w="2016000"/>
                <a:gridCol w="3600360"/>
                <a:gridCol w="3203640"/>
              </a:tblGrid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ипо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ипер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л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Депрессия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личные изменения Т (+, -, 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Удлинение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явление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. Желудочковые аритм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Готические Т (высок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Укорочение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Замедление проводимости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(т.е. бради-, блокад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ль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 же, 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е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изменений Т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Этиология гипокалием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-м К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-м Кушин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ем стерои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ем сердечных гликози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отребление алкого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тведения по Небу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МурашкоПоНебу1" descr=""/>
          <p:cNvPicPr/>
          <p:nvPr/>
        </p:nvPicPr>
        <p:blipFill>
          <a:blip r:embed="rId1"/>
          <a:stretch/>
        </p:blipFill>
        <p:spPr>
          <a:xfrm>
            <a:off x="1400040" y="1981080"/>
            <a:ext cx="2698920" cy="4687920"/>
          </a:xfrm>
          <a:prstGeom prst="rect">
            <a:avLst/>
          </a:prstGeom>
          <a:ln w="0">
            <a:noFill/>
          </a:ln>
        </p:spPr>
      </p:pic>
      <p:pic>
        <p:nvPicPr>
          <p:cNvPr id="138" name="МурашкоПоНебу2" descr=""/>
          <p:cNvPicPr/>
          <p:nvPr/>
        </p:nvPicPr>
        <p:blipFill>
          <a:blip r:embed="rId2"/>
          <a:stretch/>
        </p:blipFill>
        <p:spPr>
          <a:xfrm>
            <a:off x="5164200" y="1981080"/>
            <a:ext cx="28479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ередозировка сердечных гликози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лудочковые нарушения ритм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 т.ч. аллоритмирован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адикардии и блок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орытообразно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уфазный или отрицательный ассиметричный 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собенности детской ЭК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422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СС зависит от возра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пустимы высокие Т в грудных отведен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Б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ав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ПГ – показание к ЭхоКГ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риск врожд. поро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детей нет «Нормы»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 – растут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4915080" y="1981080"/>
          <a:ext cx="3695400" cy="4114800"/>
        </p:xfrm>
        <a:graphic>
          <a:graphicData uri="http://schemas.openxmlformats.org/drawingml/2006/table">
            <a:tbl>
              <a:tblPr/>
              <a:tblGrid>
                <a:gridCol w="1847520"/>
                <a:gridCol w="18478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 10 су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0 – 1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 1 г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~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 3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 – 1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 7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5 –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 12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 – 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 16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 – 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ороки сердц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чень косвенная оценка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гипертрофии, перегрузка, блокады ноже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птимальные методы верификации порока – ЭхоК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допплер, вентрикулография, КТ, ЯМ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аше ЗАКЛЮЧ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820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т здесь Вы можете дать волю фантазии и написать Ваши лирические рассуждения по поводу увиденног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: острейшая стадия ОИМ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а не субэпикардиальное повреждение в отведениях характеризующих боковую стенку ЛЖ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нтерпретация ЭК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55280" y="1980720"/>
            <a:ext cx="7272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, PQ, QRS, QT, RR (min – max)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ьта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чник рит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ярность ритма (пр. или неп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СС (ЧСЖ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жение ЭОС (сагиттальная ос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Г синдро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ушения рит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ушения проводим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шемия, повреждение, некро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пертроф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ндром ранней реполяризации ЛЖ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Г в динам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ктовка отдельных клинических ситуа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лючение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Ваши лирические рассужде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тведения по Небу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поНебу3" descr=""/>
          <p:cNvPicPr/>
          <p:nvPr/>
        </p:nvPicPr>
        <p:blipFill>
          <a:blip r:embed="rId1"/>
          <a:stretch/>
        </p:blipFill>
        <p:spPr>
          <a:xfrm>
            <a:off x="2724120" y="1700280"/>
            <a:ext cx="38671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Чреспищеводная Э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KOSOL000" descr=""/>
          <p:cNvPicPr/>
          <p:nvPr/>
        </p:nvPicPr>
        <p:blipFill>
          <a:blip r:embed="rId1"/>
          <a:stretch/>
        </p:blipFill>
        <p:spPr>
          <a:xfrm>
            <a:off x="1403280" y="1808280"/>
            <a:ext cx="64087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репетание предсердий при ЧП Э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4" name="IGNAT001" descr=""/>
          <p:cNvPicPr/>
          <p:nvPr/>
        </p:nvPicPr>
        <p:blipFill>
          <a:blip r:embed="rId1"/>
          <a:stretch/>
        </p:blipFill>
        <p:spPr>
          <a:xfrm>
            <a:off x="1116000" y="1808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репетание предсердий при ЧП Э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KOVAL000" descr=""/>
          <p:cNvPicPr/>
          <p:nvPr/>
        </p:nvPicPr>
        <p:blipFill>
          <a:blip r:embed="rId1"/>
          <a:stretch/>
        </p:blipFill>
        <p:spPr>
          <a:xfrm>
            <a:off x="1116000" y="186228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Фибрилляция предсердий при ЧП Э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KOVAL001" descr=""/>
          <p:cNvPicPr/>
          <p:nvPr/>
        </p:nvPicPr>
        <p:blipFill>
          <a:blip r:embed="rId1"/>
          <a:stretch/>
        </p:blipFill>
        <p:spPr>
          <a:xfrm>
            <a:off x="1116000" y="186228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-узловая тахикардия при ЧП Э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чигорина001" descr=""/>
          <p:cNvPicPr/>
          <p:nvPr/>
        </p:nvPicPr>
        <p:blipFill>
          <a:blip r:embed="rId1"/>
          <a:stretch/>
        </p:blipFill>
        <p:spPr>
          <a:xfrm>
            <a:off x="1006560" y="1989000"/>
            <a:ext cx="8137440" cy="3135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2360" y="53737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P’ = 60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PW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и ЧП Э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LAEVS004" descr=""/>
          <p:cNvPicPr/>
          <p:nvPr/>
        </p:nvPicPr>
        <p:blipFill>
          <a:blip r:embed="rId1"/>
          <a:stretch/>
        </p:blipFill>
        <p:spPr>
          <a:xfrm>
            <a:off x="971640" y="1839960"/>
            <a:ext cx="6480000" cy="4862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95640" y="5950080"/>
            <a:ext cx="2592360" cy="581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’ = 90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 лекции использованы материал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5438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рашко В.В., Струтынский А.В. Электрокардиография. – 199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педевтика внутренних болезней. Под ред. Алексеева Г.И., Виноградского О.В. – ВМА, 198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 Braunwald. A Textbook of CV Medicine. – 5 ed.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9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риалы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ww.cardiosite.ru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бственные дан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нутрисердечная Э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Аблация" descr=""/>
          <p:cNvPicPr/>
          <p:nvPr/>
        </p:nvPicPr>
        <p:blipFill>
          <a:blip r:embed="rId1"/>
          <a:stretch/>
        </p:blipFill>
        <p:spPr>
          <a:xfrm>
            <a:off x="1187280" y="1847880"/>
            <a:ext cx="748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нутрисердечная Э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623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В блокада 1 степен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АВБ1-эндо" descr=""/>
          <p:cNvPicPr/>
          <p:nvPr/>
        </p:nvPicPr>
        <p:blipFill>
          <a:blip r:embed="rId1"/>
          <a:stretch/>
        </p:blipFill>
        <p:spPr>
          <a:xfrm>
            <a:off x="2987640" y="1862280"/>
            <a:ext cx="57610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нутрисердечная Э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946920" y="148428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Б2 – 1 Венкеб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АВБ2-эндо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8200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нутрисердечная Э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МестоТрепетания" descr=""/>
          <p:cNvPicPr/>
          <p:nvPr/>
        </p:nvPicPr>
        <p:blipFill>
          <a:blip r:embed="rId1"/>
          <a:stretch/>
        </p:blipFill>
        <p:spPr>
          <a:xfrm>
            <a:off x="179280" y="1903320"/>
            <a:ext cx="8713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нутрисердечная ЭГ – левое трепет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6" name="ТП-противЧасовой" descr=""/>
          <p:cNvPicPr/>
          <p:nvPr/>
        </p:nvPicPr>
        <p:blipFill>
          <a:blip r:embed="rId1"/>
          <a:stretch/>
        </p:blipFill>
        <p:spPr>
          <a:xfrm>
            <a:off x="900000" y="1871640"/>
            <a:ext cx="705672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нутрисердечная ЭГ – правое трепет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8" name="ТП-поЧасовой" descr=""/>
          <p:cNvPicPr/>
          <p:nvPr/>
        </p:nvPicPr>
        <p:blipFill>
          <a:blip r:embed="rId1"/>
          <a:stretch/>
        </p:blipFill>
        <p:spPr>
          <a:xfrm>
            <a:off x="900000" y="1881360"/>
            <a:ext cx="71280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нутрисердечное картиров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0" name="ПоискОчагаЖТ" descr=""/>
          <p:cNvPicPr/>
          <p:nvPr/>
        </p:nvPicPr>
        <p:blipFill>
          <a:blip r:embed="rId1"/>
          <a:stretch/>
        </p:blipFill>
        <p:spPr>
          <a:xfrm>
            <a:off x="1763640" y="1776240"/>
            <a:ext cx="56167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диочастотная абл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2" name="DAIG2" descr=""/>
          <p:cNvPicPr/>
          <p:nvPr/>
        </p:nvPicPr>
        <p:blipFill>
          <a:blip r:embed="rId1"/>
          <a:stretch/>
        </p:blipFill>
        <p:spPr>
          <a:xfrm>
            <a:off x="1979640" y="1533600"/>
            <a:ext cx="540072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нтерпретация ЭК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, PQ, QRS, QT, RR (min – max)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льта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чник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ярность ритма (пр. или непр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СС (ЧСЖ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ожение Э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Г синдро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Г в динами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ение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(Ваши лирические рассужде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нтерпретация ЭКГ –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писательная ча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8137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ы пробовали оценить ЭКГ в динамике, используя только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тексты заключений врачей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, которые расшифровывали ЭКГ этого больного до Вас? Вы были уверены в том, что там было именно то, что написан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Чтобы Ваше ЭКГ заключение было понятно в дальнейшем другим врачам без пленки необходима описательная ча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Основной принцип ее написания –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ЧТО ВИЖУ – ТО ПОЮ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36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Не надо усложнять простое и очевидное!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Не надо сочинять то, чего нет!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Что вижу – то пою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нтерпретация ЭКГ –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писательная ча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569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писательная часть пишется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в единой общепринятой форме, понятной всем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. Главное – никаких лирических рассуждений типа: умеренные реполяризационные изменения или нарушения внутрижелудочковой проводимости или метаболические нарушения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Если изменения, то – какие?!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Если нарушения, то – их локализация?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Если Вы в чем-то сомневаетесь, то лучше описать то, что Вы видите, чем Ваши фантазии на эту тему. Например, отрицательный Т в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VF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отведениях. А норма это или ишемия заднее - диафрагмальных отделов миокарда ЛЖ, можете порассуждать уже в истории болезни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ЭКГсоСсылкой2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1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Обязательно отображаемые интервалы 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Q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R (min – ma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льтаж (при изменениях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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Цена деления на ЭК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66680" y="1981080"/>
          <a:ext cx="7543800" cy="41148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 мм/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 мм/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м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большая клеточк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1 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2 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мм </a:t>
                      </a:r>
                      <a:br>
                        <a:rPr sz="28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маленькая клеточк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02 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04 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сточник рит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5" name="pic1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2195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4724280"/>
            <a:ext cx="712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на ЭКГ продолжается аритмия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 она указывается как источник рит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пример: фибрилляция предсерд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егулярность рит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авильный ритм - одинаковые R-R±10%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 среднего R-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ЧСС – по ЭКГ линей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0" name="ЭКГ-линейка-ЧСС50" descr=""/>
          <p:cNvPicPr/>
          <p:nvPr/>
        </p:nvPicPr>
        <p:blipFill>
          <a:blip r:embed="rId1"/>
          <a:stretch/>
        </p:blipFill>
        <p:spPr>
          <a:xfrm>
            <a:off x="0" y="4778280"/>
            <a:ext cx="9144000" cy="792360"/>
          </a:xfrm>
          <a:prstGeom prst="rect">
            <a:avLst/>
          </a:prstGeom>
          <a:ln w="0">
            <a:noFill/>
          </a:ln>
        </p:spPr>
      </p:pic>
      <p:pic>
        <p:nvPicPr>
          <p:cNvPr id="191" name="ЭКГ-линейка-ЧСС25" descr=""/>
          <p:cNvPicPr/>
          <p:nvPr/>
        </p:nvPicPr>
        <p:blipFill>
          <a:blip r:embed="rId2"/>
          <a:stretch/>
        </p:blipFill>
        <p:spPr>
          <a:xfrm>
            <a:off x="0" y="2705040"/>
            <a:ext cx="9144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ЧС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ЧСС = 60 /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R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правильном (нерегулярном) ритме ЧСС подсчитывается минимум за 3 интервал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оответственно делить уже надо не 60, а 180 (в три раза больше)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.е. ЧСС = 180/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оложение ЭО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5" name="оси тела" descr=""/>
          <p:cNvPicPr/>
          <p:nvPr/>
        </p:nvPicPr>
        <p:blipFill>
          <a:blip r:embed="rId1"/>
          <a:stretch/>
        </p:blipFill>
        <p:spPr>
          <a:xfrm>
            <a:off x="2050920" y="1496880"/>
            <a:ext cx="5329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о сагиттальной ос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7" name="нормальная сагитальная ось" descr=""/>
          <p:cNvPicPr/>
          <p:nvPr/>
        </p:nvPicPr>
        <p:blipFill>
          <a:blip r:embed="rId1"/>
          <a:stretch/>
        </p:blipFill>
        <p:spPr>
          <a:xfrm>
            <a:off x="179280" y="2438280"/>
            <a:ext cx="4583160" cy="3967200"/>
          </a:xfrm>
          <a:prstGeom prst="rect">
            <a:avLst/>
          </a:prstGeom>
          <a:ln w="0">
            <a:noFill/>
          </a:ln>
        </p:spPr>
      </p:pic>
      <p:pic>
        <p:nvPicPr>
          <p:cNvPr id="198" name="Бейли2" descr=""/>
          <p:cNvPicPr/>
          <p:nvPr/>
        </p:nvPicPr>
        <p:blipFill>
          <a:blip r:embed="rId2"/>
          <a:stretch/>
        </p:blipFill>
        <p:spPr>
          <a:xfrm>
            <a:off x="4932360" y="2523960"/>
            <a:ext cx="421164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ИНЦИП ЭК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81080"/>
            <a:ext cx="6702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о сагиттальной ос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0" name="ОпределениеОсей" descr=""/>
          <p:cNvPicPr/>
          <p:nvPr/>
        </p:nvPicPr>
        <p:blipFill>
          <a:blip r:embed="rId1"/>
          <a:stretch/>
        </p:blipFill>
        <p:spPr>
          <a:xfrm>
            <a:off x="2098800" y="1773360"/>
            <a:ext cx="4941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изуальный (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~)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пособ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3516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йти отведение с самой большой разнице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 – S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ь этого отведения будет примерно соответствовать сагиттальной электрической оси сердц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йти отведение с одинаковым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сь этого отведения будет примерно перпендикулярна сагиттальной электрической оси сердц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изуальный (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~)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пособ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649116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ксимальный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-S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=S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Какая ос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ГоризонтОсь" descr=""/>
          <p:cNvPicPr/>
          <p:nvPr/>
        </p:nvPicPr>
        <p:blipFill>
          <a:blip r:embed="rId1"/>
          <a:stretch/>
        </p:blipFill>
        <p:spPr>
          <a:xfrm>
            <a:off x="1403280" y="1800360"/>
            <a:ext cx="71294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изуальный (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~)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пособ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64911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ксимальный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-S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=S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V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Какая ос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ВертикОсь" descr=""/>
          <p:cNvPicPr/>
          <p:nvPr/>
        </p:nvPicPr>
        <p:blipFill>
          <a:blip r:embed="rId1"/>
          <a:stretch/>
        </p:blipFill>
        <p:spPr>
          <a:xfrm>
            <a:off x="900000" y="1886040"/>
            <a:ext cx="7417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рафический (точный) способ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14720" y="1980720"/>
            <a:ext cx="42289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ходит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F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ден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кладываете полученные промежутки на вертикальной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ризонтальной ос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сечение укажет направление электрической ос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Бейли2" descr=""/>
          <p:cNvPicPr/>
          <p:nvPr/>
        </p:nvPicPr>
        <p:blipFill>
          <a:blip r:embed="rId1"/>
          <a:stretch/>
        </p:blipFill>
        <p:spPr>
          <a:xfrm>
            <a:off x="0" y="2298600"/>
            <a:ext cx="4595760" cy="4140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843280" y="4365720"/>
            <a:ext cx="0" cy="107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68360" y="5445000"/>
            <a:ext cx="57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4437000"/>
            <a:ext cx="935280" cy="16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71640" y="4292640"/>
            <a:ext cx="144720" cy="1443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95640" y="5373720"/>
            <a:ext cx="144360" cy="142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3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рафический способ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14720" y="1773000"/>
            <a:ext cx="42289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ктически можно определять ось используя любые стандартные отведения, даже с отрицательной разниц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– 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жно лишь найти точку пересечения перпендикуляров к ос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Бейли2" descr=""/>
          <p:cNvPicPr/>
          <p:nvPr/>
        </p:nvPicPr>
        <p:blipFill>
          <a:blip r:embed="rId1"/>
          <a:stretch/>
        </p:blipFill>
        <p:spPr>
          <a:xfrm>
            <a:off x="0" y="1898640"/>
            <a:ext cx="4595760" cy="4140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132000" y="4437000"/>
            <a:ext cx="144720" cy="1443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00000" y="3789360"/>
            <a:ext cx="863640" cy="165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4360" y="3716280"/>
            <a:ext cx="142920" cy="1443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50920" y="2924280"/>
            <a:ext cx="1368720" cy="23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68360" y="4005360"/>
            <a:ext cx="15829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овороты по продольной ос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6" name="нормальная продольная ось" descr=""/>
          <p:cNvPicPr/>
          <p:nvPr/>
        </p:nvPicPr>
        <p:blipFill>
          <a:blip r:embed="rId1"/>
          <a:stretch/>
        </p:blipFill>
        <p:spPr>
          <a:xfrm>
            <a:off x="826920" y="2046240"/>
            <a:ext cx="784872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ереходная зо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16000" y="1927080"/>
            <a:ext cx="7128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овороты по продольной ос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6680" y="1981080"/>
          <a:ext cx="7543800" cy="41148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ходная зо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 часов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тив часов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овороты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о продольной ос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00000" y="2549520"/>
            <a:ext cx="82440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тведения Стандартны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стандартные отведения2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135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агиттальная и продольная ос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4" name="ось-сердца4" descr=""/>
          <p:cNvPicPr/>
          <p:nvPr/>
        </p:nvPicPr>
        <p:blipFill>
          <a:blip r:embed="rId1"/>
          <a:stretch/>
        </p:blipFill>
        <p:spPr>
          <a:xfrm>
            <a:off x="1763640" y="1797120"/>
            <a:ext cx="5616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овороты по поперечной ос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6" name="нормальная поперечная ось" descr=""/>
          <p:cNvPicPr/>
          <p:nvPr/>
        </p:nvPicPr>
        <p:blipFill>
          <a:blip r:embed="rId1"/>
          <a:stretch/>
        </p:blipFill>
        <p:spPr>
          <a:xfrm>
            <a:off x="5878440" y="1484280"/>
            <a:ext cx="3265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овороты по поперечной ос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рот верхушкой впере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I, I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рот верхушкой наза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I, I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КГ СИНДРОМ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я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я проводим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шемия, повреждение, некр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роф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дром ранней реполяризации Л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КГ СИНДРОМ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арушения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я проводим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шемия, повреждение, некр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роф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дром ранней реполяризации Л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рит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44" name="синусовая аритмия" descr=""/>
          <p:cNvPicPr/>
          <p:nvPr/>
        </p:nvPicPr>
        <p:blipFill>
          <a:blip r:embed="rId1"/>
          <a:stretch/>
        </p:blipFill>
        <p:spPr>
          <a:xfrm>
            <a:off x="684360" y="2975040"/>
            <a:ext cx="8208720" cy="2154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979640" y="56610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нусовая аритмия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R - &gt;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рит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47" name="синусовая брадикардия" descr=""/>
          <p:cNvPicPr/>
          <p:nvPr/>
        </p:nvPicPr>
        <p:blipFill>
          <a:blip r:embed="rId1"/>
          <a:stretch/>
        </p:blipFill>
        <p:spPr>
          <a:xfrm>
            <a:off x="826920" y="1816200"/>
            <a:ext cx="6193080" cy="2120760"/>
          </a:xfrm>
          <a:prstGeom prst="rect">
            <a:avLst/>
          </a:prstGeom>
          <a:ln w="0">
            <a:noFill/>
          </a:ln>
        </p:spPr>
      </p:pic>
      <p:pic>
        <p:nvPicPr>
          <p:cNvPr id="248" name="синусовая тахикардия" descr=""/>
          <p:cNvPicPr/>
          <p:nvPr/>
        </p:nvPicPr>
        <p:blipFill>
          <a:blip r:embed="rId2"/>
          <a:stretch/>
        </p:blipFill>
        <p:spPr>
          <a:xfrm>
            <a:off x="468360" y="4224240"/>
            <a:ext cx="6840360" cy="2546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380360" y="2349360"/>
            <a:ext cx="1295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нус та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нус бра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рит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1" name="миграция водителя ритма" descr=""/>
          <p:cNvPicPr/>
          <p:nvPr/>
        </p:nvPicPr>
        <p:blipFill>
          <a:blip r:embed="rId1"/>
          <a:stretch/>
        </p:blipFill>
        <p:spPr>
          <a:xfrm>
            <a:off x="468360" y="2417760"/>
            <a:ext cx="8496360" cy="33368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19280" y="59500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грация водителя рит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рит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4" name="узловой ритм" descr=""/>
          <p:cNvPicPr/>
          <p:nvPr/>
        </p:nvPicPr>
        <p:blipFill>
          <a:blip r:embed="rId1"/>
          <a:stretch/>
        </p:blipFill>
        <p:spPr>
          <a:xfrm>
            <a:off x="395280" y="2763720"/>
            <a:ext cx="8497800" cy="2535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547640" y="566100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зловой 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рит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7" name="предсердная экстрасистола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066160" cy="1575000"/>
          </a:xfrm>
          <a:prstGeom prst="rect">
            <a:avLst/>
          </a:prstGeom>
          <a:ln w="0">
            <a:noFill/>
          </a:ln>
        </p:spPr>
      </p:pic>
      <p:pic>
        <p:nvPicPr>
          <p:cNvPr id="258" name="предсердная экстрасистолия 2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6121440" cy="2755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948360" y="42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кстрасист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638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тведения Стандартные усиленны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стандартные отведения усил2" descr=""/>
          <p:cNvPicPr/>
          <p:nvPr/>
        </p:nvPicPr>
        <p:blipFill>
          <a:blip r:embed="rId1"/>
          <a:stretch/>
        </p:blipFill>
        <p:spPr>
          <a:xfrm>
            <a:off x="1116000" y="1981080"/>
            <a:ext cx="681372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рит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42920" y="1932120"/>
            <a:ext cx="7489800" cy="4268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084720" y="630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кстрасист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рит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64" name="СВТ2" descr=""/>
          <p:cNvPicPr/>
          <p:nvPr/>
        </p:nvPicPr>
        <p:blipFill>
          <a:blip r:embed="rId1"/>
          <a:stretch/>
        </p:blipFill>
        <p:spPr>
          <a:xfrm>
            <a:off x="179280" y="2517840"/>
            <a:ext cx="8713800" cy="3268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443640" y="609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рит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67" name="фибрилляция предсердий" descr=""/>
          <p:cNvPicPr/>
          <p:nvPr/>
        </p:nvPicPr>
        <p:blipFill>
          <a:blip r:embed="rId1"/>
          <a:stretch/>
        </p:blipFill>
        <p:spPr>
          <a:xfrm>
            <a:off x="324000" y="2620800"/>
            <a:ext cx="8640720" cy="2968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940360" y="61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рит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0" name="трепетание предсердий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8497800" cy="26352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6000" y="573408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рит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448240" y="2170080"/>
            <a:ext cx="36957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дация ЖЭ по Лаун-Вольф-Рай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менее 30 в ча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более 30 в ча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олиморф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ар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мономорфны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лиморф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робежка ЖТ (3 и более подря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img012" descr=""/>
          <p:cNvPicPr/>
          <p:nvPr/>
        </p:nvPicPr>
        <p:blipFill>
          <a:blip r:embed="rId1"/>
          <a:stretch/>
        </p:blipFill>
        <p:spPr>
          <a:xfrm>
            <a:off x="0" y="2301840"/>
            <a:ext cx="5508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рит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6" name="img013" descr=""/>
          <p:cNvPicPr/>
          <p:nvPr/>
        </p:nvPicPr>
        <p:blipFill>
          <a:blip r:embed="rId1"/>
          <a:stretch/>
        </p:blipFill>
        <p:spPr>
          <a:xfrm>
            <a:off x="1332000" y="175428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КГ СИНДРОМ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я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арушения проводим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шемия, повреждение, некр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роф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дром ранней реполяризации Л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проводим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80" name="синусовая пауза2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569080" cy="14796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572000" y="5373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инус-арест, пау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проводим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83" name="АВБ1" descr=""/>
          <p:cNvPicPr/>
          <p:nvPr/>
        </p:nvPicPr>
        <p:blipFill>
          <a:blip r:embed="rId1"/>
          <a:stretch/>
        </p:blipFill>
        <p:spPr>
          <a:xfrm>
            <a:off x="250920" y="3551400"/>
            <a:ext cx="8642160" cy="10396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020000" y="5950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ВБ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проводим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86" name="АВБ2-1" descr=""/>
          <p:cNvPicPr/>
          <p:nvPr/>
        </p:nvPicPr>
        <p:blipFill>
          <a:blip r:embed="rId1"/>
          <a:stretch/>
        </p:blipFill>
        <p:spPr>
          <a:xfrm>
            <a:off x="468360" y="2589120"/>
            <a:ext cx="8136000" cy="3132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443640" y="602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ВБ2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тведения Стандартны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емоническое правило наложения стандартных электродов на конеч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ды накладываются, начиная с правой руки (правый –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gh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красный –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– электрод с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асн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аркиров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лее следуют по часовой стрелке в следующей последовательности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ный,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Ж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лтый,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леный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рны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омнить последовательность цветов проще по первым буквам фразы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ждая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Ж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нщина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ёр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проводим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89" name="АВБ2-2" descr=""/>
          <p:cNvPicPr/>
          <p:nvPr/>
        </p:nvPicPr>
        <p:blipFill>
          <a:blip r:embed="rId1"/>
          <a:stretch/>
        </p:blipFill>
        <p:spPr>
          <a:xfrm>
            <a:off x="250920" y="2408400"/>
            <a:ext cx="8713800" cy="3443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22764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ВБ2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проводим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92" name="ПАВБ" descr=""/>
          <p:cNvPicPr/>
          <p:nvPr/>
        </p:nvPicPr>
        <p:blipFill>
          <a:blip r:embed="rId1"/>
          <a:stretch/>
        </p:blipFill>
        <p:spPr>
          <a:xfrm>
            <a:off x="0" y="3543480"/>
            <a:ext cx="9144000" cy="1052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651640" y="5373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В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проводим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95" name="ПБ-ЛНПГ" descr=""/>
          <p:cNvPicPr/>
          <p:nvPr/>
        </p:nvPicPr>
        <p:blipFill>
          <a:blip r:embed="rId1"/>
          <a:stretch/>
        </p:blipFill>
        <p:spPr>
          <a:xfrm>
            <a:off x="250920" y="2595600"/>
            <a:ext cx="8642160" cy="3076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7164360" y="61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НП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проводим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98" name="ПБ-ПНПГ" descr=""/>
          <p:cNvPicPr/>
          <p:nvPr/>
        </p:nvPicPr>
        <p:blipFill>
          <a:blip r:embed="rId1"/>
          <a:stretch/>
        </p:blipFill>
        <p:spPr>
          <a:xfrm>
            <a:off x="395280" y="2792520"/>
            <a:ext cx="8497800" cy="26128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732720" y="5805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НП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142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Нарушения проводимости – блокада ветвей левой ножк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24000" y="1981080"/>
          <a:ext cx="8819640" cy="4114800"/>
        </p:xfrm>
        <a:graphic>
          <a:graphicData uri="http://schemas.openxmlformats.org/drawingml/2006/table">
            <a:tbl>
              <a:tblPr/>
              <a:tblGrid>
                <a:gridCol w="2205000"/>
                <a:gridCol w="2205000"/>
                <a:gridCol w="2205000"/>
                <a:gridCol w="2204640"/>
              </a:tblGrid>
              <a:tr h="13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лока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дняя ветвь ЛНП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лево 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-3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, aV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,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II, aV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няя ветвь ЛНП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право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&gt;12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II, aV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, aV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рушения проводимости (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WPW, PQ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03" name="WPW" descr=""/>
          <p:cNvPicPr/>
          <p:nvPr/>
        </p:nvPicPr>
        <p:blipFill>
          <a:blip r:embed="rId1"/>
          <a:stretch/>
        </p:blipFill>
        <p:spPr>
          <a:xfrm>
            <a:off x="395280" y="1908000"/>
            <a:ext cx="835344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АВ тахикард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39640" y="1898640"/>
            <a:ext cx="8399160" cy="3746520"/>
            <a:chOff x="539640" y="1898640"/>
            <a:chExt cx="8399160" cy="3746520"/>
          </a:xfrm>
        </p:grpSpPr>
        <p:cxnSp>
          <p:nvCxnSpPr>
            <p:cNvPr id="306" name="_s225311"/>
            <p:cNvCxnSpPr>
              <a:stCxn id="307" idx="1"/>
              <a:endCxn id="308" idx="2"/>
            </p:cNvCxnSpPr>
            <p:nvPr/>
          </p:nvCxnSpPr>
          <p:spPr>
            <a:xfrm rot="10800000">
              <a:off x="4750200" y="4958640"/>
              <a:ext cx="22500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9" name="_s225307"/>
            <p:cNvCxnSpPr>
              <a:stCxn id="310" idx="1"/>
              <a:endCxn id="311" idx="2"/>
            </p:cNvCxnSpPr>
            <p:nvPr/>
          </p:nvCxnSpPr>
          <p:spPr>
            <a:xfrm rot="10800000">
              <a:off x="6213960" y="3079080"/>
              <a:ext cx="226800" cy="58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2" name="_s225305"/>
            <p:cNvCxnSpPr>
              <a:stCxn id="313" idx="3"/>
              <a:endCxn id="311" idx="2"/>
            </p:cNvCxnSpPr>
            <p:nvPr/>
          </p:nvCxnSpPr>
          <p:spPr>
            <a:xfrm flipV="1">
              <a:off x="5988240" y="3079080"/>
              <a:ext cx="226800" cy="58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4" name="_s225301"/>
            <p:cNvCxnSpPr>
              <a:stCxn id="315" idx="0"/>
              <a:endCxn id="311" idx="2"/>
            </p:cNvCxnSpPr>
            <p:nvPr/>
          </p:nvCxnSpPr>
          <p:spPr>
            <a:xfrm flipV="1" rot="16200000">
              <a:off x="6260400" y="3032640"/>
              <a:ext cx="1168920" cy="1261440"/>
            </a:xfrm>
            <a:prstGeom prst="bentConnector3">
              <a:avLst>
                <a:gd name="adj1" fmla="val 97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6" name="_s225299"/>
            <p:cNvCxnSpPr>
              <a:stCxn id="308" idx="0"/>
              <a:endCxn id="311" idx="2"/>
            </p:cNvCxnSpPr>
            <p:nvPr/>
          </p:nvCxnSpPr>
          <p:spPr>
            <a:xfrm flipH="1" flipV="1" rot="5400000">
              <a:off x="4898160" y="2931480"/>
              <a:ext cx="1168920" cy="1464120"/>
            </a:xfrm>
            <a:prstGeom prst="bentConnector3">
              <a:avLst>
                <a:gd name="adj1" fmla="val 97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7" name="_s225297"/>
            <p:cNvCxnSpPr>
              <a:stCxn id="318" idx="3"/>
              <a:endCxn id="319" idx="2"/>
            </p:cNvCxnSpPr>
            <p:nvPr/>
          </p:nvCxnSpPr>
          <p:spPr>
            <a:xfrm flipV="1">
              <a:off x="3037680" y="3079080"/>
              <a:ext cx="228240" cy="152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0" name="_s225295"/>
            <p:cNvCxnSpPr>
              <a:stCxn id="321" idx="3"/>
              <a:endCxn id="319" idx="2"/>
            </p:cNvCxnSpPr>
            <p:nvPr/>
          </p:nvCxnSpPr>
          <p:spPr>
            <a:xfrm flipV="1">
              <a:off x="3037680" y="3079080"/>
              <a:ext cx="228240" cy="58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2" name="_s225293"/>
            <p:cNvCxnSpPr>
              <a:stCxn id="311" idx="0"/>
              <a:endCxn id="323" idx="2"/>
            </p:cNvCxnSpPr>
            <p:nvPr/>
          </p:nvCxnSpPr>
          <p:spPr>
            <a:xfrm flipV="1" rot="16200000">
              <a:off x="5361840" y="1750320"/>
              <a:ext cx="229320" cy="1476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4" name="_s225291"/>
            <p:cNvCxnSpPr>
              <a:stCxn id="319" idx="0"/>
              <a:endCxn id="323" idx="2"/>
            </p:cNvCxnSpPr>
            <p:nvPr/>
          </p:nvCxnSpPr>
          <p:spPr>
            <a:xfrm flipH="1" flipV="1" rot="5400000">
              <a:off x="3887280" y="1752120"/>
              <a:ext cx="229320" cy="1473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23" name="_s225287"/>
            <p:cNvSpPr/>
            <p:nvPr/>
          </p:nvSpPr>
          <p:spPr>
            <a:xfrm>
              <a:off x="3348720" y="1898640"/>
              <a:ext cx="2779200" cy="4762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АВ - тахикард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_s225288"/>
            <p:cNvSpPr/>
            <p:nvPr/>
          </p:nvSpPr>
          <p:spPr>
            <a:xfrm>
              <a:off x="2174040" y="2603520"/>
              <a:ext cx="2181240" cy="4762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АВ - узлов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_s225290"/>
            <p:cNvSpPr/>
            <p:nvPr/>
          </p:nvSpPr>
          <p:spPr>
            <a:xfrm>
              <a:off x="5124600" y="2603520"/>
              <a:ext cx="2180880" cy="4762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WP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_s225294"/>
            <p:cNvSpPr/>
            <p:nvPr/>
          </p:nvSpPr>
          <p:spPr>
            <a:xfrm>
              <a:off x="539640" y="3308400"/>
              <a:ext cx="2498040" cy="711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Fast/Slo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_s225296"/>
            <p:cNvSpPr/>
            <p:nvPr/>
          </p:nvSpPr>
          <p:spPr>
            <a:xfrm>
              <a:off x="539640" y="4248000"/>
              <a:ext cx="2498040" cy="7113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Slow/Fa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_s225298"/>
            <p:cNvSpPr/>
            <p:nvPr/>
          </p:nvSpPr>
          <p:spPr>
            <a:xfrm>
              <a:off x="3501000" y="4248000"/>
              <a:ext cx="2498040" cy="7113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0000"/>
                  </a:solidFill>
                  <a:latin typeface="Tahoma"/>
                </a:rPr>
                <a:t>АВ – ортодромная</a:t>
              </a:r>
              <a:br>
                <a:rPr sz="1900"/>
              </a:br>
              <a:r>
                <a:rPr b="1" lang="ru-RU" sz="1900" spc="-1" strike="noStrike">
                  <a:solidFill>
                    <a:srgbClr val="ff0000"/>
                  </a:solidFill>
                  <a:latin typeface="Tahoma"/>
                </a:rPr>
                <a:t>(узкие </a:t>
              </a:r>
              <a:r>
                <a:rPr b="1" lang="en-US" sz="1900" spc="-1" strike="noStrike">
                  <a:solidFill>
                    <a:srgbClr val="ff0000"/>
                  </a:solidFill>
                  <a:latin typeface="Tahoma"/>
                </a:rPr>
                <a:t>QRS)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_s225300"/>
            <p:cNvSpPr/>
            <p:nvPr/>
          </p:nvSpPr>
          <p:spPr>
            <a:xfrm>
              <a:off x="6225480" y="4248000"/>
              <a:ext cx="2497680" cy="7113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0000"/>
                  </a:solidFill>
                  <a:latin typeface="Tahoma"/>
                </a:rPr>
                <a:t>АВ – антидромная</a:t>
              </a:r>
              <a:br>
                <a:rPr sz="1900"/>
              </a:br>
              <a:r>
                <a:rPr b="1" lang="ru-RU" sz="1900" spc="-1" strike="noStrike">
                  <a:solidFill>
                    <a:srgbClr val="ff0000"/>
                  </a:solidFill>
                  <a:latin typeface="Tahoma"/>
                </a:rPr>
                <a:t>(широкие </a:t>
              </a:r>
              <a:r>
                <a:rPr b="1" lang="en-US" sz="1900" spc="-1" strike="noStrike">
                  <a:solidFill>
                    <a:srgbClr val="ff0000"/>
                  </a:solidFill>
                  <a:latin typeface="Tahoma"/>
                </a:rPr>
                <a:t>QRS)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_s225304"/>
            <p:cNvSpPr/>
            <p:nvPr/>
          </p:nvSpPr>
          <p:spPr>
            <a:xfrm>
              <a:off x="3490200" y="3308400"/>
              <a:ext cx="2498040" cy="711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Туда – АВ,</a:t>
              </a:r>
              <a:br>
                <a:rPr sz="1600"/>
              </a:b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Обратно – п. Кент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_s225306"/>
            <p:cNvSpPr/>
            <p:nvPr/>
          </p:nvSpPr>
          <p:spPr>
            <a:xfrm>
              <a:off x="6440760" y="3308400"/>
              <a:ext cx="2498040" cy="711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Туда – п. Кент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Обратно - А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_s225310"/>
            <p:cNvSpPr/>
            <p:nvPr/>
          </p:nvSpPr>
          <p:spPr>
            <a:xfrm>
              <a:off x="4975200" y="5187960"/>
              <a:ext cx="3952440" cy="4572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Помнить о «медленном» Кент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P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50920" y="1658880"/>
            <a:ext cx="8716680" cy="3841920"/>
            <a:chOff x="250920" y="1658880"/>
            <a:chExt cx="8716680" cy="3841920"/>
          </a:xfrm>
        </p:grpSpPr>
        <p:cxnSp>
          <p:nvCxnSpPr>
            <p:cNvPr id="327" name="_s223265"/>
            <p:cNvCxnSpPr>
              <a:stCxn id="328" idx="0"/>
              <a:endCxn id="329" idx="2"/>
            </p:cNvCxnSpPr>
            <p:nvPr/>
          </p:nvCxnSpPr>
          <p:spPr>
            <a:xfrm flipV="1" rot="16200000">
              <a:off x="7335720" y="47944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0" name="_s223263"/>
            <p:cNvCxnSpPr>
              <a:stCxn id="331" idx="0"/>
              <a:endCxn id="332" idx="2"/>
            </p:cNvCxnSpPr>
            <p:nvPr/>
          </p:nvCxnSpPr>
          <p:spPr>
            <a:xfrm flipV="1" rot="16200000">
              <a:off x="3850920" y="47944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3" name="_s223261"/>
            <p:cNvCxnSpPr>
              <a:stCxn id="329" idx="1"/>
              <a:endCxn id="334" idx="2"/>
            </p:cNvCxnSpPr>
            <p:nvPr/>
          </p:nvCxnSpPr>
          <p:spPr>
            <a:xfrm rot="10800000">
              <a:off x="5708520" y="3877560"/>
              <a:ext cx="578160" cy="51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5" name="_s223259"/>
            <p:cNvCxnSpPr>
              <a:stCxn id="332" idx="3"/>
              <a:endCxn id="334" idx="2"/>
            </p:cNvCxnSpPr>
            <p:nvPr/>
          </p:nvCxnSpPr>
          <p:spPr>
            <a:xfrm flipV="1">
              <a:off x="5127840" y="3877560"/>
              <a:ext cx="581400" cy="51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6" name="_s223257"/>
            <p:cNvCxnSpPr>
              <a:stCxn id="337" idx="0"/>
              <a:endCxn id="338" idx="2"/>
            </p:cNvCxnSpPr>
            <p:nvPr/>
          </p:nvCxnSpPr>
          <p:spPr>
            <a:xfrm flipV="1">
              <a:off x="1413720" y="387756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9" name="_s223253"/>
            <p:cNvCxnSpPr>
              <a:stCxn id="338" idx="0"/>
              <a:endCxn id="340" idx="2"/>
            </p:cNvCxnSpPr>
            <p:nvPr/>
          </p:nvCxnSpPr>
          <p:spPr>
            <a:xfrm flipV="1">
              <a:off x="1413720" y="319176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223249"/>
            <p:cNvCxnSpPr>
              <a:stCxn id="334" idx="0"/>
              <a:endCxn id="342" idx="2"/>
            </p:cNvCxnSpPr>
            <p:nvPr/>
          </p:nvCxnSpPr>
          <p:spPr>
            <a:xfrm flipV="1">
              <a:off x="5708880" y="319176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223245"/>
            <p:cNvCxnSpPr>
              <a:stCxn id="342" idx="0"/>
              <a:endCxn id="344" idx="2"/>
            </p:cNvCxnSpPr>
            <p:nvPr/>
          </p:nvCxnSpPr>
          <p:spPr>
            <a:xfrm flipV="1" rot="16200000">
              <a:off x="5044320" y="1680120"/>
              <a:ext cx="229320" cy="1099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223243"/>
            <p:cNvCxnSpPr>
              <a:stCxn id="340" idx="0"/>
              <a:endCxn id="344" idx="2"/>
            </p:cNvCxnSpPr>
            <p:nvPr/>
          </p:nvCxnSpPr>
          <p:spPr>
            <a:xfrm flipH="1" flipV="1" rot="5400000">
              <a:off x="2897280" y="631800"/>
              <a:ext cx="229320" cy="3196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44" name="_s223239"/>
            <p:cNvSpPr/>
            <p:nvPr/>
          </p:nvSpPr>
          <p:spPr>
            <a:xfrm>
              <a:off x="3935520" y="1658880"/>
              <a:ext cx="1347480" cy="4572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ahoma"/>
                </a:rPr>
                <a:t>WPW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223240"/>
            <p:cNvSpPr/>
            <p:nvPr/>
          </p:nvSpPr>
          <p:spPr>
            <a:xfrm>
              <a:off x="613080" y="2344680"/>
              <a:ext cx="1603440" cy="847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ahoma"/>
                </a:rPr>
                <a:t>Нет</a:t>
              </a:r>
              <a:br>
                <a:rPr sz="1700"/>
              </a:br>
              <a:r>
                <a:rPr b="1" lang="en-US" sz="1700" spc="-1" strike="noStrike">
                  <a:solidFill>
                    <a:srgbClr val="ff0000"/>
                  </a:solidFill>
                  <a:latin typeface="Tahoma"/>
                </a:rPr>
                <a:t>Тахикард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223242"/>
            <p:cNvSpPr/>
            <p:nvPr/>
          </p:nvSpPr>
          <p:spPr>
            <a:xfrm>
              <a:off x="4906800" y="2344680"/>
              <a:ext cx="1603440" cy="847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ahoma"/>
                </a:rPr>
                <a:t>Есть</a:t>
              </a:r>
              <a:br>
                <a:rPr sz="1700"/>
              </a:br>
              <a:r>
                <a:rPr b="1" lang="en-US" sz="1700" spc="-1" strike="noStrike">
                  <a:solidFill>
                    <a:srgbClr val="ff0000"/>
                  </a:solidFill>
                  <a:latin typeface="Tahoma"/>
                </a:rPr>
                <a:t>Тахикарди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_s223248"/>
            <p:cNvSpPr/>
            <p:nvPr/>
          </p:nvSpPr>
          <p:spPr>
            <a:xfrm>
              <a:off x="4941000" y="3421080"/>
              <a:ext cx="1536120" cy="4572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Синдро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_s223252"/>
            <p:cNvSpPr/>
            <p:nvPr/>
          </p:nvSpPr>
          <p:spPr>
            <a:xfrm>
              <a:off x="645840" y="3421080"/>
              <a:ext cx="1536120" cy="4572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Феноме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_s223256"/>
            <p:cNvSpPr/>
            <p:nvPr/>
          </p:nvSpPr>
          <p:spPr>
            <a:xfrm>
              <a:off x="250920" y="4106880"/>
              <a:ext cx="2326320" cy="574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Наблюдение,</a:t>
              </a:r>
              <a:br>
                <a:rPr sz="1400"/>
              </a:b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Лечение не требуетс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_s223258"/>
            <p:cNvSpPr/>
            <p:nvPr/>
          </p:nvSpPr>
          <p:spPr>
            <a:xfrm>
              <a:off x="2802240" y="4106880"/>
              <a:ext cx="2325960" cy="574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Tahoma"/>
                </a:rPr>
                <a:t>Явны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_s223260"/>
            <p:cNvSpPr/>
            <p:nvPr/>
          </p:nvSpPr>
          <p:spPr>
            <a:xfrm>
              <a:off x="6286680" y="4106880"/>
              <a:ext cx="2326320" cy="574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Tahoma"/>
                </a:rPr>
                <a:t>Скрыты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_s223262"/>
            <p:cNvSpPr/>
            <p:nvPr/>
          </p:nvSpPr>
          <p:spPr>
            <a:xfrm>
              <a:off x="2449080" y="4910040"/>
              <a:ext cx="3033360" cy="5907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Tahoma"/>
                </a:rPr>
                <a:t>Классические признаки </a:t>
              </a:r>
              <a:r>
                <a:rPr b="1" lang="en-US" sz="1500" spc="-1" strike="noStrike">
                  <a:solidFill>
                    <a:srgbClr val="ff0000"/>
                  </a:solidFill>
                  <a:latin typeface="Tahoma"/>
                </a:rPr>
                <a:t>WPW</a:t>
              </a:r>
              <a:br>
                <a:rPr sz="1500"/>
              </a:br>
              <a:r>
                <a:rPr b="1" lang="ru-RU" sz="1500" spc="-1" strike="noStrike">
                  <a:solidFill>
                    <a:srgbClr val="ff0000"/>
                  </a:solidFill>
                  <a:latin typeface="Tahoma"/>
                </a:rPr>
                <a:t>без тахикарди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_s223264"/>
            <p:cNvSpPr/>
            <p:nvPr/>
          </p:nvSpPr>
          <p:spPr>
            <a:xfrm>
              <a:off x="5934240" y="4910040"/>
              <a:ext cx="3033360" cy="5907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240" rIns="3924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Без тахикардии ЭКГ – </a:t>
              </a:r>
              <a:br>
                <a:rPr sz="1600"/>
              </a:b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вариант норм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рушения проводимости (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WPW, PQ)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– таблица Галлахе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66680" y="1700280"/>
          <a:ext cx="7826400" cy="4395240"/>
        </p:xfrm>
        <a:graphic>
          <a:graphicData uri="http://schemas.openxmlformats.org/drawingml/2006/table">
            <a:tbl>
              <a:tblPr/>
              <a:tblGrid>
                <a:gridCol w="601920"/>
                <a:gridCol w="601920"/>
                <a:gridCol w="602280"/>
                <a:gridCol w="601920"/>
                <a:gridCol w="601920"/>
                <a:gridCol w="601920"/>
                <a:gridCol w="602280"/>
                <a:gridCol w="601920"/>
                <a:gridCol w="602280"/>
                <a:gridCol w="601560"/>
                <a:gridCol w="602280"/>
                <a:gridCol w="601920"/>
                <a:gridCol w="602280"/>
              </a:tblGrid>
              <a:tr h="366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чк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дения ЭК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F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-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-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(+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0" y="609300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окализация добавочных пучков: 1 - правый передний парасептальный, 2 - правый передний, 3 - правый боковой, 4 - правый задний, 5 - правый парасептальный, 6 - левый задний парасептальный, 7 - левый задний, 8 - левый боковой, 9 - левый передний, 10 - левый передний парасептальны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рушения проводим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50" name="Skhem+V00++" descr=""/>
          <p:cNvPicPr/>
          <p:nvPr/>
        </p:nvPicPr>
        <p:blipFill>
          <a:blip r:embed="rId1"/>
          <a:stretch/>
        </p:blipFill>
        <p:spPr>
          <a:xfrm>
            <a:off x="0" y="1743120"/>
            <a:ext cx="5651640" cy="28353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40000" y="1989000"/>
            <a:ext cx="320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КС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жим р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гнитный т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2" name="BIPOLAR" descr=""/>
          <p:cNvPicPr/>
          <p:nvPr/>
        </p:nvPicPr>
        <p:blipFill>
          <a:blip r:embed="rId2"/>
          <a:stretch/>
        </p:blipFill>
        <p:spPr>
          <a:xfrm>
            <a:off x="2195640" y="4653000"/>
            <a:ext cx="2746080" cy="1981080"/>
          </a:xfrm>
          <a:prstGeom prst="rect">
            <a:avLst/>
          </a:prstGeom>
          <a:ln w="0">
            <a:noFill/>
          </a:ln>
        </p:spPr>
      </p:pic>
      <p:pic>
        <p:nvPicPr>
          <p:cNvPr id="353" name="UNUPOLAR" descr=""/>
          <p:cNvPicPr/>
          <p:nvPr/>
        </p:nvPicPr>
        <p:blipFill>
          <a:blip r:embed="rId3"/>
          <a:stretch/>
        </p:blipFill>
        <p:spPr>
          <a:xfrm>
            <a:off x="5292720" y="4653000"/>
            <a:ext cx="27352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рудные отве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Грудные отведения Гребенев2" descr=""/>
          <p:cNvPicPr/>
          <p:nvPr/>
        </p:nvPicPr>
        <p:blipFill>
          <a:blip r:embed="rId1"/>
          <a:stretch/>
        </p:blipFill>
        <p:spPr>
          <a:xfrm>
            <a:off x="995400" y="1981080"/>
            <a:ext cx="3460680" cy="4616640"/>
          </a:xfrm>
          <a:prstGeom prst="rect">
            <a:avLst/>
          </a:prstGeom>
          <a:ln w="0">
            <a:noFill/>
          </a:ln>
        </p:spPr>
      </p:pic>
      <p:pic>
        <p:nvPicPr>
          <p:cNvPr id="124" name="Грудные отведения2" descr=""/>
          <p:cNvPicPr/>
          <p:nvPr/>
        </p:nvPicPr>
        <p:blipFill>
          <a:blip r:embed="rId2"/>
          <a:stretch/>
        </p:blipFill>
        <p:spPr>
          <a:xfrm>
            <a:off x="5332320" y="1981080"/>
            <a:ext cx="26146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КГ СИНДРОМ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я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я проводим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шемия, повреждение, некр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роф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дром ранней реполяризации Л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643280" y="1988640"/>
            <a:ext cx="42292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Ишем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врежд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екро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1042920" y="4797360"/>
            <a:ext cx="43344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76360" y="4797360"/>
            <a:ext cx="71280" cy="360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547640" y="3933720"/>
            <a:ext cx="144720" cy="1224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3933720"/>
            <a:ext cx="142920" cy="503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35280" y="4437000"/>
            <a:ext cx="72720" cy="432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08000" y="4869000"/>
            <a:ext cx="5032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11280" y="4365720"/>
            <a:ext cx="576360" cy="503280"/>
          </a:xfrm>
          <a:custGeom>
            <a:avLst/>
            <a:gdLst/>
            <a:ahLst/>
            <a:rect l="l" t="t" r="r" b="b"/>
            <a:pathLst>
              <a:path w="363" h="363">
                <a:moveTo>
                  <a:pt x="0" y="363"/>
                </a:moveTo>
                <a:cubicBezTo>
                  <a:pt x="61" y="181"/>
                  <a:pt x="122" y="0"/>
                  <a:pt x="182" y="0"/>
                </a:cubicBezTo>
                <a:cubicBezTo>
                  <a:pt x="242" y="0"/>
                  <a:pt x="333" y="303"/>
                  <a:pt x="363" y="36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87640" y="4869000"/>
            <a:ext cx="576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3040" y="4581360"/>
            <a:ext cx="299880" cy="239760"/>
          </a:xfrm>
          <a:custGeom>
            <a:avLst/>
            <a:gdLst/>
            <a:ahLst/>
            <a:rect l="l" t="t" r="r" b="b"/>
            <a:pathLst>
              <a:path w="189" h="151">
                <a:moveTo>
                  <a:pt x="189" y="136"/>
                </a:moveTo>
                <a:cubicBezTo>
                  <a:pt x="159" y="68"/>
                  <a:pt x="129" y="0"/>
                  <a:pt x="99" y="0"/>
                </a:cubicBezTo>
                <a:cubicBezTo>
                  <a:pt x="69" y="0"/>
                  <a:pt x="16" y="121"/>
                  <a:pt x="8" y="136"/>
                </a:cubicBezTo>
                <a:cubicBezTo>
                  <a:pt x="0" y="151"/>
                  <a:pt x="26" y="120"/>
                  <a:pt x="53" y="9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4653000"/>
            <a:ext cx="289080" cy="647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индром поражения мышцы сердц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0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86211E-006 L -2.5E-006 0.08412 E">
                                      <p:cBhvr>
                                        <p:cTn id="9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8412 L 0.00017 -0.0051 E">
                                      <p:cBhvr>
                                        <p:cTn id="96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63847E-006 L 0.00399 -0.07347 E">
                                      <p:cBhvr>
                                        <p:cTn id="107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63847E-006 L 0.00399 0.06303 E">
                                      <p:cBhvr>
                                        <p:cTn id="111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6303 L 0.00399 3.63847E-006 E">
                                      <p:cBhvr>
                                        <p:cTn id="115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уб </a:t>
            </a: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Э П И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кардиальные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ишемия и повреждени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69" name="субэпи" descr=""/>
          <p:cNvPicPr/>
          <p:nvPr/>
        </p:nvPicPr>
        <p:blipFill>
          <a:blip r:embed="rId1"/>
          <a:stretch/>
        </p:blipFill>
        <p:spPr>
          <a:xfrm>
            <a:off x="395280" y="2957400"/>
            <a:ext cx="8137440" cy="2381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340000" y="5445000"/>
            <a:ext cx="611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удобства запомин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вац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суб ЭПИ поврежде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б ЭПИ ишемия –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наоборо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отрицательный 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окализация ишемии, повреждения, некро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, aVF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няя (нижний) стен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1, 2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няя стен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4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хуш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5, 6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ковая (задний) ст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тадии ОИ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рейшая – 6 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рая – 1 – 2 су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острая – 1 ме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бцовая – 1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КГ стадии ОИ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76" name="СтадииЗубцов" descr=""/>
          <p:cNvPicPr/>
          <p:nvPr/>
        </p:nvPicPr>
        <p:blipFill>
          <a:blip r:embed="rId1"/>
          <a:stretch/>
        </p:blipFill>
        <p:spPr>
          <a:xfrm>
            <a:off x="0" y="1886040"/>
            <a:ext cx="91440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ЭКГ – не окончательно формулирует диагноз ОИМ 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диагноза над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ин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иохим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ЭКГ ишемия, но диагноз ОИ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ЭКГ повреждение, но только + ВЭ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К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80" name="ОКС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1294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Биохимия при ОИ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82" name="ФерментыИМ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281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де искать повреждение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Точка 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конец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R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Точка 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j + 80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м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ополнительные Отве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2821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вые Груд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ые Груд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Неб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респищеводная эндограм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исердечная эндограм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исердечное картирова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ket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тетер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ипы ЭКГ реакций ВЭ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86" name="ВЭМ-типыРеакций11норма" descr=""/>
          <p:cNvPicPr/>
          <p:nvPr/>
        </p:nvPicPr>
        <p:blipFill>
          <a:blip r:embed="rId1"/>
          <a:stretch/>
        </p:blipFill>
        <p:spPr>
          <a:xfrm>
            <a:off x="0" y="3044880"/>
            <a:ext cx="914400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ипы ЭКГ реакций ВЭ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88" name="ВЭМ-типыРеакций11быстрКосовосх" descr=""/>
          <p:cNvPicPr/>
          <p:nvPr/>
        </p:nvPicPr>
        <p:blipFill>
          <a:blip r:embed="rId1"/>
          <a:stretch/>
        </p:blipFill>
        <p:spPr>
          <a:xfrm>
            <a:off x="0" y="3036960"/>
            <a:ext cx="9144000" cy="21272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5007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страя косовосходя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ипы ЭКГ реакций ВЭ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91" name="ВЭМ-типыРеакций11минимальнДепресс" descr=""/>
          <p:cNvPicPr/>
          <p:nvPr/>
        </p:nvPicPr>
        <p:blipFill>
          <a:blip r:embed="rId1"/>
          <a:stretch/>
        </p:blipFill>
        <p:spPr>
          <a:xfrm>
            <a:off x="0" y="3063960"/>
            <a:ext cx="9144000" cy="20700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211640" y="5516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нимальная депре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ипы ЭКГ реакций ВЭ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94" name="ВЭМ-типыРеакций11медлКосовосх" descr=""/>
          <p:cNvPicPr/>
          <p:nvPr/>
        </p:nvPicPr>
        <p:blipFill>
          <a:blip r:embed="rId1"/>
          <a:stretch/>
        </p:blipFill>
        <p:spPr>
          <a:xfrm>
            <a:off x="0" y="2984400"/>
            <a:ext cx="9144000" cy="22384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140360" y="537372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дленная косовосходя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ипы ЭКГ реакций ВЭ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97" name="ВЭМ-типыРеакций11горизонтальная" descr=""/>
          <p:cNvPicPr/>
          <p:nvPr/>
        </p:nvPicPr>
        <p:blipFill>
          <a:blip r:embed="rId1"/>
          <a:stretch/>
        </p:blipFill>
        <p:spPr>
          <a:xfrm>
            <a:off x="0" y="3057480"/>
            <a:ext cx="9144000" cy="20829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651640" y="558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ризонт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ипы ЭКГ реакций ВЭ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00" name="ВЭМ-типыРеакций22косонисходящая" descr=""/>
          <p:cNvPicPr/>
          <p:nvPr/>
        </p:nvPicPr>
        <p:blipFill>
          <a:blip r:embed="rId1"/>
          <a:stretch/>
        </p:blipFill>
        <p:spPr>
          <a:xfrm>
            <a:off x="0" y="3041640"/>
            <a:ext cx="9144000" cy="21178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788000" y="5516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сонисходя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ипы ЭКГ реакций ВЭ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03" name="ВЭМ-типыРеакций22элевация" descr=""/>
          <p:cNvPicPr/>
          <p:nvPr/>
        </p:nvPicPr>
        <p:blipFill>
          <a:blip r:embed="rId1"/>
          <a:stretch/>
        </p:blipFill>
        <p:spPr>
          <a:xfrm>
            <a:off x="0" y="3024360"/>
            <a:ext cx="9144000" cy="21542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5580000" y="5661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в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ипы ЭКГ реакций ВЭ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06" name="ВЭМ-типыРеакций22Q" descr=""/>
          <p:cNvPicPr/>
          <p:nvPr/>
        </p:nvPicPr>
        <p:blipFill>
          <a:blip r:embed="rId1"/>
          <a:stretch/>
        </p:blipFill>
        <p:spPr>
          <a:xfrm>
            <a:off x="0" y="3009960"/>
            <a:ext cx="9144000" cy="21844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076720" y="5516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вация с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ипы ЭКГ реакций ВЭ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09" name="EFREM001" descr=""/>
          <p:cNvPicPr/>
          <p:nvPr/>
        </p:nvPicPr>
        <p:blipFill>
          <a:blip r:embed="rId1"/>
          <a:stretch/>
        </p:blipFill>
        <p:spPr>
          <a:xfrm>
            <a:off x="1116000" y="1808280"/>
            <a:ext cx="6696000" cy="502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8317080" y="400536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КГ СИНДРОМ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я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я проводим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шемия, повреждение, некр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Гипертроф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дром ранней реполяризации Л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4:13:17Z</dcterms:created>
  <dc:creator>Елена</dc:creator>
  <dc:description/>
  <dc:language>en-US</dc:language>
  <cp:lastModifiedBy>A</cp:lastModifiedBy>
  <dcterms:modified xsi:type="dcterms:W3CDTF">2004-04-29T07:36:03Z</dcterms:modified>
  <cp:revision>34</cp:revision>
  <dc:subject/>
  <dc:title>Э  К  Г</dc:title>
</cp:coreProperties>
</file>